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498-AD87-4998-913A-E4AA36A0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BBB-5769-447D-BEB1-8550B57C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7B9-8E3A-48AC-B658-1AA49EB3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B4B-91DC-400D-BE63-E5C28FA1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F14-A0E4-4265-BB15-493CABF1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B94-2DD9-4877-B6DB-FF6AEE31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296-6CA3-4444-BE16-EA0FF49C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3AC-6B0D-4874-B9F3-B7F8A4C9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86B-355E-4D88-9360-E0575023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EB9-16E7-4025-8F62-4BA89A27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7CA-3E41-4EC3-96B5-4F073541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316-5B73-491E-BD55-7AF139D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FCB3-15BD-40C6-ADED-469E934D5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 Oslavujme zvu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slavujme zvučne Hospodi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kiaľ sme tu na zemi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ujme vďačne jeho Sy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akujme mu piesň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ho úpri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ym ľuďom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, jasajm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ie nás do nebies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orečme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ernosť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a nikdy nemen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na slávu Všemocn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ne chvály s nadš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8:27:56Z</dcterms:modified>
  <cp:revision>7</cp:revision>
  <dc:subject/>
  <dc:title>Je veľký náš Pán, on slávy je Kráľ Nech do všetkých strán  spev vrúcnych znie chvál.</dc:title>
</cp:coreProperties>
</file>